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8656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860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5"/>
          </p:nvPr>
        </p:nvSpPr>
        <p:spPr>
          <a:xfrm>
            <a:off x="384444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ftr" idx="6"/>
          </p:nvPr>
        </p:nvSpPr>
        <p:spPr>
          <a:xfrm>
            <a:off x="-36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sldNum" idx="7"/>
          </p:nvPr>
        </p:nvSpPr>
        <p:spPr>
          <a:xfrm>
            <a:off x="384444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D07212-CA64-4626-A523-21BCEE51ABF8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body"/>
          </p:nvPr>
        </p:nvSpPr>
        <p:spPr>
          <a:xfrm>
            <a:off x="906120" y="4738680"/>
            <a:ext cx="4971960" cy="44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Img"/>
          </p:nvPr>
        </p:nvSpPr>
        <p:spPr>
          <a:xfrm>
            <a:off x="1069560" y="887040"/>
            <a:ext cx="46450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384480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6CC11A-15C0-4DE4-AF10-70A6F875A167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2628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E30-9F42-456C-B4D6-394E22A92ADF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0A9-5D91-4377-B00E-7E7F3EA4C18B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7E57-D4CE-4EE9-9C77-F295639BE12E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7AFC-CCBE-4596-BEC5-E9B16F03A055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AD44-EE07-4A78-8A57-116EAD8CB82B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913E-BAC6-4B08-95D0-E3E484925B9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8D44-3964-4305-A9E4-2E56337B17FC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EC7B-EF71-42F4-B026-AF34BBE7B744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49F3-E34A-471B-893F-8F3E9C1657E1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76C2-18F7-4A7C-BF27-FD23AC865B8E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  <p:sp>
        <p:nvSpPr>
          <p:cNvPr id="646" name="Textfeld 8"/>
          <p:cNvSpPr/>
          <p:nvPr/>
        </p:nvSpPr>
        <p:spPr>
          <a:xfrm>
            <a:off x="7667640" y="4508640"/>
            <a:ext cx="14414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© Copyright 2013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dt" idx="3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ftr" idx="4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E267-8953-46C2-9663-AC86412A35AF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059C-245D-437F-8C53-B8B752A5A97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DD67-301A-48E9-A314-77C0A45178C2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5595-2D0B-43B9-9B2C-08D0B13BE60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Ralf Bommersb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261320" y="6424560"/>
            <a:ext cx="172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Neue Features in JavaFX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13FE-9385-4B44-961C-DCFCBDF1B755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C47-6E79-40F7-B0E2-D784546AE8D8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4A8C-2DCC-451F-BBF2-4062D1C5886C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D815-34D6-4E8B-BE4A-A48543D23CA4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4E70-7D3B-459A-B09B-57A2FAAB6F4F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5C58-7B1E-4B46-86D4-AE388D6C491F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BEB4-FD19-4B71-9F89-D42E8D7AE37F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E3A3-C2A7-43C9-BE4A-0D7C27E003B4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B09B-E25E-4554-B5EA-2EF9F54332CF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FB9D-73E4-42FF-992E-BBAF7AC61ED1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penjdk.java.net/projects/openjfx/" TargetMode="External"/><Relationship Id="rId2" Type="http://schemas.openxmlformats.org/officeDocument/2006/relationships/hyperlink" Target="https://wiki.openjdk.java.net/display/OpenJFX/Mai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fxclipse.bestsolution.at/install.html#all-in-on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2562120"/>
            <a:ext cx="496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ue Features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JavaFX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68000" y="4462560"/>
            <a:ext cx="33829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.8.2014,  Ralf Bommer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C:\Users\rbommersbach\Desktop\froscon_logo.jpg"/>
          <p:cNvPicPr/>
          <p:nvPr/>
        </p:nvPicPr>
        <p:blipFill>
          <a:blip r:embed="rId1"/>
          <a:stretch/>
        </p:blipFill>
        <p:spPr>
          <a:xfrm>
            <a:off x="539640" y="333360"/>
            <a:ext cx="36673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Datepick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2760" y="1197000"/>
            <a:ext cx="38372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ich (!) ein Datepicker als GUI-Komponente ohne Einbindung externer Bibliotheken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CSS anpass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die neue Java SE 8 Date and Tim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Grafik 3" descr="datepicker.jpg"/>
          <p:cNvPicPr/>
          <p:nvPr/>
        </p:nvPicPr>
        <p:blipFill>
          <a:blip r:embed="rId1"/>
          <a:stretch/>
        </p:blipFill>
        <p:spPr>
          <a:xfrm>
            <a:off x="3875040" y="1197000"/>
            <a:ext cx="5018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Modena Them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23640" y="1196640"/>
            <a:ext cx="34765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s Default Theme “Mode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Platform (keine nativen Themes in Version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 CSS Erstellung eigener Themes (z.B. AquaFX für Mac 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 wechs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4140360" y="4724280"/>
          <a:ext cx="4608360" cy="1584360"/>
        </p:xfrm>
        <a:graphic>
          <a:graphicData uri="http://schemas.openxmlformats.org/drawingml/2006/table">
            <a:tbl>
              <a:tblPr/>
              <a:tblGrid>
                <a:gridCol w="147600"/>
                <a:gridCol w="4460760"/>
              </a:tblGrid>
              <a:tr h="1980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class MyApplication extends Application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start(Stage stag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setUserAgentStylesheet(STYLESHEET_CASPIAN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  <p:sp>
        <p:nvSpPr>
          <p:cNvPr id="738" name="Eingekerbter Pfeil nach rechts 6"/>
          <p:cNvSpPr/>
          <p:nvPr/>
        </p:nvSpPr>
        <p:spPr>
          <a:xfrm>
            <a:off x="2843280" y="5084640"/>
            <a:ext cx="979560" cy="4860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99b8a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Grafik 4" descr="modena_caspian_comparison.jpg"/>
          <p:cNvPicPr/>
          <p:nvPr/>
        </p:nvPicPr>
        <p:blipFill>
          <a:blip r:embed="rId1"/>
          <a:stretch/>
        </p:blipFill>
        <p:spPr>
          <a:xfrm>
            <a:off x="3672000" y="981000"/>
            <a:ext cx="54720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TreetableView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24000" y="1197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le Businessanwendungen in Swing benutzen diese Kompon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entsprechende Komponente in JavaF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Grafik 8" descr="single-selection-treetable.png"/>
          <p:cNvPicPr/>
          <p:nvPr/>
        </p:nvPicPr>
        <p:blipFill>
          <a:blip r:embed="rId1"/>
          <a:stretch/>
        </p:blipFill>
        <p:spPr>
          <a:xfrm>
            <a:off x="755640" y="2997360"/>
            <a:ext cx="7750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Print API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4" name="Inhaltsplatzhalter 2"/>
          <p:cNvSpPr/>
          <p:nvPr/>
        </p:nvSpPr>
        <p:spPr>
          <a:xfrm>
            <a:off x="303120" y="1125360"/>
            <a:ext cx="85168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leichbar mit der Print API in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nt API Klasse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ietet direkte Unterstützung des Print-API: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.getEngine().print(PrinterJob j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0920" y="2924280"/>
          <a:ext cx="8569080" cy="3529080"/>
        </p:xfrm>
        <a:graphic>
          <a:graphicData uri="http://schemas.openxmlformats.org/drawingml/2006/table">
            <a:tbl>
              <a:tblPr/>
              <a:tblGrid>
                <a:gridCol w="339480"/>
                <a:gridCol w="8229600"/>
              </a:tblGrid>
              <a:tr h="3564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print(final Node nod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 printer = Printer.getDefaultPrinter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ageLayout pageLayout = printer.createPageLayout(Paper.A4, PageOrientation.PORTRAIT, Printer.MarginType.DEFAULT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X = pageLayout.getPrintableWidth() / node.getBoundsInParent().getWidth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Y = pageLayout.getPrintableHeight() / node.getBoundsInParent().getHeight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node.getTransforms().add(new Scale(scaleX, scaleY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Job job = PrinterJob.createPrinter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job != null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oolean success = job.printPage(node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success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ob.end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Swing &amp; JavaFX finden zueinand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24000" y="1052640"/>
            <a:ext cx="851688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FXPanel (seit JavaF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ing-Komponente um JavaFX Views in Swing zu integ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ngNode (seit JavaFX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wing-Inhalte in eine JavaFX-Umgebung integ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vergessen(!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wing Event Dispatch Thread und JavaFX Applikation Thread synchronisie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187280" y="4508640"/>
          <a:ext cx="6624720" cy="1728720"/>
        </p:xfrm>
        <a:graphic>
          <a:graphicData uri="http://schemas.openxmlformats.org/drawingml/2006/table">
            <a:tbl>
              <a:tblPr/>
              <a:tblGrid>
                <a:gridCol w="212760"/>
                <a:gridCol w="6411960"/>
              </a:tblGrid>
              <a:tr h="172872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Label labelFX = new Label("JavaFX Label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Button buttonSwing = new JButton("Swing Button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utton.addActionListener(event -&gt;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latform.runLater(() -&gt; labelFX.setText("Swing aktualisiert JavaFX"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 im Überblick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 u.a. auch mit WebSockets, Web Workers, besserer HTML5/JS Unterstützung sowie Drucken von HTML-S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vas A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chne direkt auf einer einzelnen graphischen Node in der Sz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ouc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erend auf den Möglichkeiten der entspr. 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-DPI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B. für Retina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-accelerated graphics pipe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Hilfe der Graphics Rendering Pipeline P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 media en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möglicht Playback von (Web) Multimedia Inhalten (basierend auf dem GStreamer multimedia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Fazi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410920" y="2637000"/>
            <a:ext cx="446436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We </a:t>
            </a:r>
            <a:r>
              <a:rPr b="1" lang="de-DE" sz="4000" spc="-1" strike="noStrike">
                <a:solidFill>
                  <a:srgbClr val="c00000"/>
                </a:solidFill>
                <a:latin typeface="Arial"/>
              </a:rPr>
              <a:t>&lt;3</a:t>
            </a: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 JavaF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64300"/>
                </a:solidFill>
                <a:latin typeface="Arial"/>
              </a:rPr>
              <a:t>(Noch Fragen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03120" y="1197000"/>
            <a:ext cx="85168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Samples und Slides dieser Prä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github.com/mjohenneken/anderscore-FrOSCon-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nebuilder 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www.oracle.com/technetwork/java/javase/downloads/javafxscenebuilder-info-215768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tting started with JavaFX and Overview of Key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avafx_get_started.htm#JFXST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Getting Started with JavaFX 3D 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raphics-tutorial/javafx-3d-graphic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How do I run a sample Application (including 3DViewer.j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fx-overview.htm#BABHGF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h Text API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ikis.oracle.com/display/OpenJDK/Rich+Text+API+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Grafik 19" descr="micha_schiffe_.jpeg"/>
          <p:cNvPicPr/>
          <p:nvPr/>
        </p:nvPicPr>
        <p:blipFill>
          <a:blip r:embed="rId1"/>
          <a:stretch/>
        </p:blipFill>
        <p:spPr>
          <a:xfrm>
            <a:off x="250920" y="1125360"/>
            <a:ext cx="8626320" cy="496764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34099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Inhal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39528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395280" y="184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JavaFX goes Ope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395280" y="249156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Tools: Scenbuilder 2.0, e(fx)clip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395280" y="3933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JavaFX goes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hteck 14"/>
          <p:cNvSpPr/>
          <p:nvPr/>
        </p:nvSpPr>
        <p:spPr>
          <a:xfrm>
            <a:off x="246240" y="370368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hteck 16"/>
          <p:cNvSpPr/>
          <p:nvPr/>
        </p:nvSpPr>
        <p:spPr>
          <a:xfrm>
            <a:off x="0" y="1557360"/>
            <a:ext cx="8893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hteck 17"/>
          <p:cNvSpPr/>
          <p:nvPr/>
        </p:nvSpPr>
        <p:spPr>
          <a:xfrm>
            <a:off x="257040" y="446724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hteck 16"/>
          <p:cNvSpPr/>
          <p:nvPr/>
        </p:nvSpPr>
        <p:spPr>
          <a:xfrm>
            <a:off x="388800" y="2936880"/>
            <a:ext cx="8569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395280" y="3142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Richtext Support in JavaFX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hteck 17"/>
          <p:cNvSpPr/>
          <p:nvPr/>
        </p:nvSpPr>
        <p:spPr>
          <a:xfrm>
            <a:off x="138240" y="530064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hteck 13"/>
          <p:cNvSpPr/>
          <p:nvPr/>
        </p:nvSpPr>
        <p:spPr>
          <a:xfrm>
            <a:off x="395280" y="47242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Weiter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hteck 16"/>
          <p:cNvSpPr/>
          <p:nvPr/>
        </p:nvSpPr>
        <p:spPr>
          <a:xfrm>
            <a:off x="260280" y="235728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hteck 15"/>
          <p:cNvSpPr/>
          <p:nvPr/>
        </p:nvSpPr>
        <p:spPr>
          <a:xfrm>
            <a:off x="395280" y="5516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Fazit,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Einführung: Über mich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908000" y="981000"/>
            <a:ext cx="69120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 Engineer (Dipl.-Inf.) bei der anderScore GmbH in Köl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jährige Erfahrung 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ktorientierter Software-Entwicklung, vornehmlich in Java SE/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, Analyse und Entwurf von Geschäftsprozessen und Anwendungslog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rchitektur mehrschichtiger (verteilter)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ign und Implementierung von Web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gration von Altsyste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gilen Entwicklungs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C:\Users\rbommersbach\Desktop\User-rbommersbach.jpg"/>
          <p:cNvPicPr/>
          <p:nvPr/>
        </p:nvPicPr>
        <p:blipFill>
          <a:blip r:embed="rId1"/>
          <a:stretch/>
        </p:blipFill>
        <p:spPr>
          <a:xfrm>
            <a:off x="395280" y="1052640"/>
            <a:ext cx="1374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Open Sourc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50920" y="1196640"/>
            <a:ext cx="8516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8 fully open sou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URL: </a:t>
            </a:r>
            <a:br>
              <a:rPr sz="2000"/>
            </a:b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openjdk.java.net/projects/openjf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 (Build Instructions, etc.):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https://wiki.openjdk.java.net/display/OpenJFX/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aches Einbetten aller Sourcen in eine IDE (z.B. Eclipse) dur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fx-src.z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m JDK 8 root folde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nun auf dem Standard Klassenp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FX liegt nun endlich auf dem default runtime classpath einer Oracle Java implement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re/lib/ext/jfxrt.j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und ist damit ein vollständig integrierter Teil des Java JDK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fik 3" descr="openjdk.jpg"/>
          <p:cNvPicPr/>
          <p:nvPr/>
        </p:nvPicPr>
        <p:blipFill>
          <a:blip r:embed="rId3"/>
          <a:stretch/>
        </p:blipFill>
        <p:spPr>
          <a:xfrm>
            <a:off x="6012000" y="981000"/>
            <a:ext cx="2933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Scenebuilder 2.0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ktives Design der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ert FXM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2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JavaFX 8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selbsterstel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JavaFX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ere ID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414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e(fx) Eclipse Addo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fohlenes Eclipse-Plugin für JavaFX 8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es eclip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DK 8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(all-in-one bund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efxclipse.bestsolution.at/install.html#all-in-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42116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Richtext Support in JavaFX 8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03120" y="1125000"/>
            <a:ext cx="8516880" cy="22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 Klasse Text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fluss mit versch. Fonts, Styles, Grafiken, Nod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s Wrapping des Textes bei Window resiz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5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9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Shape3D und Konsorte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23640" y="1125000"/>
            <a:ext cx="511164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hape3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avafx.scene.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hape3D (abstr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Mesh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C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s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vafx.scene.shape.Mesh (abstr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fx.scene.shape.Triangle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Inhaltsplatzhalter 2"/>
          <p:cNvSpPr/>
          <p:nvPr/>
        </p:nvSpPr>
        <p:spPr>
          <a:xfrm>
            <a:off x="5091120" y="3860640"/>
            <a:ext cx="4052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Grafik 10" descr="Shapes.gif"/>
          <p:cNvPicPr/>
          <p:nvPr/>
        </p:nvPicPr>
        <p:blipFill>
          <a:blip r:embed="rId1"/>
          <a:stretch/>
        </p:blipFill>
        <p:spPr>
          <a:xfrm>
            <a:off x="5580000" y="1197000"/>
            <a:ext cx="3273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3DView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3120" y="1196640"/>
            <a:ext cx="40528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Import gänger 3D-Formate (z.B. OBJ and M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Export als Java oder FXML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uell noch sehr früher, experimenteller Entwicklungs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572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1T16:33:14Z</dcterms:created>
  <dc:creator>R.Vicups, S.Ohm</dc:creator>
  <dc:description/>
  <dc:language>en-US</dc:language>
  <cp:lastModifiedBy>rbommersbach</cp:lastModifiedBy>
  <cp:lastPrinted>1996-08-01T16:36:58Z</cp:lastPrinted>
  <dcterms:modified xsi:type="dcterms:W3CDTF">2014-08-22T14:52:48Z</dcterms:modified>
  <cp:revision>439</cp:revision>
  <dc:subject/>
  <dc:title>Standard-power-point-Vorlage</dc:title>
</cp:coreProperties>
</file>