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1.jpeg" ContentType="image/jpeg"/>
  <Override PartName="/ppt/media/image7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</p:sldIdLst>
  <p:sldSz cx="9144000" cy="6858000"/>
  <p:notesSz cx="6786563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0" y="0"/>
            <a:ext cx="6786000" cy="992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hdr"/>
          </p:nvPr>
        </p:nvSpPr>
        <p:spPr>
          <a:xfrm>
            <a:off x="-360" y="9360"/>
            <a:ext cx="294012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dt" idx="5"/>
          </p:nvPr>
        </p:nvSpPr>
        <p:spPr>
          <a:xfrm>
            <a:off x="3844440" y="9360"/>
            <a:ext cx="294012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 type="ftr" idx="6"/>
          </p:nvPr>
        </p:nvSpPr>
        <p:spPr>
          <a:xfrm>
            <a:off x="-360" y="9447120"/>
            <a:ext cx="294012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 type="sldNum" idx="7"/>
          </p:nvPr>
        </p:nvSpPr>
        <p:spPr>
          <a:xfrm>
            <a:off x="3844440" y="9447120"/>
            <a:ext cx="294012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3AEF0B0-C5F5-408B-953C-ABB5C9E02F7B}" type="slidenum">
              <a:rPr b="0" i="1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 type="body"/>
          </p:nvPr>
        </p:nvSpPr>
        <p:spPr>
          <a:xfrm>
            <a:off x="906120" y="4738680"/>
            <a:ext cx="4971960" cy="441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 type="sldImg"/>
          </p:nvPr>
        </p:nvSpPr>
        <p:spPr>
          <a:xfrm>
            <a:off x="1069560" y="887040"/>
            <a:ext cx="4645080" cy="3484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5"/>
          <p:cNvSpPr/>
          <p:nvPr/>
        </p:nvSpPr>
        <p:spPr>
          <a:xfrm>
            <a:off x="3844800" y="9447120"/>
            <a:ext cx="29401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38137F8-6D53-4D1C-8D07-6B9CF2BABCBF}" type="slidenum">
              <a:rPr b="0" i="1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78960" y="4712760"/>
            <a:ext cx="542628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3120" y="380196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115920"/>
            <a:ext cx="55548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6740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03120" y="380196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6740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18276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6240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30312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18276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6240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740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115920"/>
            <a:ext cx="55548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6740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03120" y="380196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6740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8276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6240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0312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8276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6240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18276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6240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30312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18276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6240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457200" y="115920"/>
            <a:ext cx="55548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6740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03120" y="380196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6740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18276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6240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30312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18276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6240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457200" y="115920"/>
            <a:ext cx="55548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6740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03120" y="380196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6740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18276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6240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30312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18276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6240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457200" y="115920"/>
            <a:ext cx="55548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66740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03120" y="380196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66740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318276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06240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30312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318276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606240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ubTitle"/>
          </p:nvPr>
        </p:nvSpPr>
        <p:spPr>
          <a:xfrm>
            <a:off x="457200" y="115920"/>
            <a:ext cx="55548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66740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303120" y="380196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66740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318276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06240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30312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6"/>
          <p:cNvSpPr>
            <a:spLocks noGrp="1"/>
          </p:cNvSpPr>
          <p:nvPr>
            <p:ph/>
          </p:nvPr>
        </p:nvSpPr>
        <p:spPr>
          <a:xfrm>
            <a:off x="318276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7"/>
          <p:cNvSpPr>
            <a:spLocks noGrp="1"/>
          </p:cNvSpPr>
          <p:nvPr>
            <p:ph/>
          </p:nvPr>
        </p:nvSpPr>
        <p:spPr>
          <a:xfrm>
            <a:off x="606240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115920"/>
            <a:ext cx="55548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740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3120" y="380196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740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18276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6240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0312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18276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6240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115920"/>
            <a:ext cx="55548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740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03120" y="380196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740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18276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6240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0312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18276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6240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115920"/>
            <a:ext cx="55548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740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03120" y="380196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740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18276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6240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30312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18276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6240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115920"/>
            <a:ext cx="55548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6740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03120" y="380196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6740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115920"/>
            <a:ext cx="55548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18276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6240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30312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18276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6240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115920"/>
            <a:ext cx="55548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6740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03120" y="380196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6740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18276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6240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30312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18276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6240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115920"/>
            <a:ext cx="55548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740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6740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03120" y="380196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6740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18276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6240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30312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18276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6240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115920"/>
            <a:ext cx="55548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6740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03120" y="380196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6740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18276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6240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30312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18276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6240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brockhaus-ag.de/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hyperlink" Target="http://www.brockhaus-ag.de/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hyperlink" Target="http://www.brockhaus-ag.de/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hyperlink" Target="http://www.brockhaus-ag.de/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hyperlink" Target="http://www.brockhaus-ag.de/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www.brockhaus-ag.de/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hyperlink" Target="http://www.brockhaus-ag.de/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hyperlink" Target="http://www.brockhaus-ag.de/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hyperlink" Target="http://www.brockhaus-ag.de/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hyperlink" Target="http://www.brockhaus-ag.de/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hyperlink" Target="http://www.brockhaus-ag.de/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hyperlink" Target="http://www.brockhaus-ag.de/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7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0d4f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5"/>
          <p:cNvSpPr/>
          <p:nvPr/>
        </p:nvSpPr>
        <p:spPr>
          <a:xfrm>
            <a:off x="7924680" y="457200"/>
            <a:ext cx="89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4524480" y="6615000"/>
            <a:ext cx="675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53307-31AE-4319-9F7B-CB53E5EDF4F0}" type="datetime">
              <a:rPr b="0" lang="de-DE" sz="10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148960" y="6515280"/>
            <a:ext cx="75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D04A2-855C-445B-918C-12F92A598D25}" type="slidenum">
              <a:rPr b="0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39">
            <a:hlinkClick r:id="rId2"/>
          </p:cNvPr>
          <p:cNvSpPr/>
          <p:nvPr/>
        </p:nvSpPr>
        <p:spPr>
          <a:xfrm>
            <a:off x="3914640" y="3105000"/>
            <a:ext cx="91440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40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41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42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713fdfc0-1a72-49da-bd13-b47278f75372" descr="EAF3711E-BEB0-47E0-BD76-8002A3B4EEFA@localdomain"/>
          <p:cNvPicPr/>
          <p:nvPr/>
        </p:nvPicPr>
        <p:blipFill>
          <a:blip r:embed="rId3"/>
          <a:stretch/>
        </p:blipFill>
        <p:spPr>
          <a:xfrm>
            <a:off x="0" y="0"/>
            <a:ext cx="9144000" cy="95580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43" descr="_anderScore-Logo_2773x575_new"/>
          <p:cNvPicPr/>
          <p:nvPr/>
        </p:nvPicPr>
        <p:blipFill>
          <a:blip r:embed="rId4"/>
          <a:stretch/>
        </p:blipFill>
        <p:spPr>
          <a:xfrm>
            <a:off x="6084720" y="231840"/>
            <a:ext cx="2754360" cy="576360"/>
          </a:xfrm>
          <a:prstGeom prst="rect">
            <a:avLst/>
          </a:prstGeom>
          <a:ln w="0">
            <a:noFill/>
          </a:ln>
        </p:spPr>
      </p:pic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f3c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47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0d4f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5"/>
          <p:cNvSpPr/>
          <p:nvPr/>
        </p:nvSpPr>
        <p:spPr>
          <a:xfrm>
            <a:off x="7924680" y="457200"/>
            <a:ext cx="89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Rectangle 6"/>
          <p:cNvSpPr/>
          <p:nvPr/>
        </p:nvSpPr>
        <p:spPr>
          <a:xfrm>
            <a:off x="4524480" y="6615000"/>
            <a:ext cx="675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6584F-3F6F-4220-AF22-651B5BD09F59}" type="datetime">
              <a:rPr b="0" lang="de-DE" sz="10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7"/>
          <p:cNvSpPr/>
          <p:nvPr/>
        </p:nvSpPr>
        <p:spPr>
          <a:xfrm>
            <a:off x="8148960" y="6515280"/>
            <a:ext cx="75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51D4A-7FAB-489B-AF2A-64C0341763AA}" type="slidenum">
              <a:rPr b="0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39">
            <a:hlinkClick r:id="rId2"/>
          </p:cNvPr>
          <p:cNvSpPr/>
          <p:nvPr/>
        </p:nvSpPr>
        <p:spPr>
          <a:xfrm>
            <a:off x="3914640" y="3105000"/>
            <a:ext cx="91440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40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41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42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713fdfc0-1a72-49da-bd13-b47278f75372" descr="EAF3711E-BEB0-47E0-BD76-8002A3B4EEFA@localdomain"/>
          <p:cNvPicPr/>
          <p:nvPr/>
        </p:nvPicPr>
        <p:blipFill>
          <a:blip r:embed="rId3"/>
          <a:stretch/>
        </p:blipFill>
        <p:spPr>
          <a:xfrm>
            <a:off x="0" y="0"/>
            <a:ext cx="9144000" cy="95580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43" descr="_anderScore-Logo_2773x575_new"/>
          <p:cNvPicPr/>
          <p:nvPr/>
        </p:nvPicPr>
        <p:blipFill>
          <a:blip r:embed="rId4"/>
          <a:stretch/>
        </p:blipFill>
        <p:spPr>
          <a:xfrm>
            <a:off x="6084720" y="231840"/>
            <a:ext cx="2754360" cy="576360"/>
          </a:xfrm>
          <a:prstGeom prst="rect">
            <a:avLst/>
          </a:prstGeom>
          <a:ln w="0">
            <a:noFill/>
          </a:ln>
        </p:spPr>
      </p:pic>
      <p:sp>
        <p:nvSpPr>
          <p:cNvPr id="451" name="Text Box 24"/>
          <p:cNvSpPr/>
          <p:nvPr/>
        </p:nvSpPr>
        <p:spPr>
          <a:xfrm>
            <a:off x="251640" y="6429240"/>
            <a:ext cx="3033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anderScore GmbH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 Frankenwerft 35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 50667 Köl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&lt;Aut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30"/>
          <p:cNvSpPr/>
          <p:nvPr/>
        </p:nvSpPr>
        <p:spPr>
          <a:xfrm>
            <a:off x="4261320" y="6424560"/>
            <a:ext cx="114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&lt;Dateiname&gt;.pp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body"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f3c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47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0d4f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5"/>
          <p:cNvSpPr/>
          <p:nvPr/>
        </p:nvSpPr>
        <p:spPr>
          <a:xfrm>
            <a:off x="7924680" y="457200"/>
            <a:ext cx="89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Rectangle 6"/>
          <p:cNvSpPr/>
          <p:nvPr/>
        </p:nvSpPr>
        <p:spPr>
          <a:xfrm>
            <a:off x="4524480" y="6615000"/>
            <a:ext cx="675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E8FC8-24BA-41B2-B721-5AE62C6AA5A2}" type="datetime">
              <a:rPr b="0" lang="de-DE" sz="10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7"/>
          <p:cNvSpPr/>
          <p:nvPr/>
        </p:nvSpPr>
        <p:spPr>
          <a:xfrm>
            <a:off x="8148960" y="6515280"/>
            <a:ext cx="75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0D1E9-1F99-44F7-9269-307C956ADC0F}" type="slidenum">
              <a:rPr b="0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39">
            <a:hlinkClick r:id="rId2"/>
          </p:cNvPr>
          <p:cNvSpPr/>
          <p:nvPr/>
        </p:nvSpPr>
        <p:spPr>
          <a:xfrm>
            <a:off x="3914640" y="3105000"/>
            <a:ext cx="91440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40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41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42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713fdfc0-1a72-49da-bd13-b47278f75372" descr="EAF3711E-BEB0-47E0-BD76-8002A3B4EEFA@localdomain"/>
          <p:cNvPicPr/>
          <p:nvPr/>
        </p:nvPicPr>
        <p:blipFill>
          <a:blip r:embed="rId3"/>
          <a:stretch/>
        </p:blipFill>
        <p:spPr>
          <a:xfrm>
            <a:off x="0" y="0"/>
            <a:ext cx="9144000" cy="95580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43" descr="_anderScore-Logo_2773x575_new"/>
          <p:cNvPicPr/>
          <p:nvPr/>
        </p:nvPicPr>
        <p:blipFill>
          <a:blip r:embed="rId4"/>
          <a:stretch/>
        </p:blipFill>
        <p:spPr>
          <a:xfrm>
            <a:off x="6084720" y="231840"/>
            <a:ext cx="2754360" cy="576360"/>
          </a:xfrm>
          <a:prstGeom prst="rect">
            <a:avLst/>
          </a:prstGeom>
          <a:ln w="0">
            <a:noFill/>
          </a:ln>
        </p:spPr>
      </p:pic>
      <p:sp>
        <p:nvSpPr>
          <p:cNvPr id="501" name="Text Box 24"/>
          <p:cNvSpPr/>
          <p:nvPr/>
        </p:nvSpPr>
        <p:spPr>
          <a:xfrm>
            <a:off x="251640" y="6429240"/>
            <a:ext cx="3033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anderScore GmbH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 Frankenwerft 35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 50667 Köl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&lt;Aut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30"/>
          <p:cNvSpPr/>
          <p:nvPr/>
        </p:nvSpPr>
        <p:spPr>
          <a:xfrm>
            <a:off x="4261320" y="6424560"/>
            <a:ext cx="114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&lt;Dateiname&gt;.pp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body"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f3c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47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0d4f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Rectangle 5"/>
          <p:cNvSpPr/>
          <p:nvPr/>
        </p:nvSpPr>
        <p:spPr>
          <a:xfrm>
            <a:off x="7924680" y="457200"/>
            <a:ext cx="89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Rectangle 6"/>
          <p:cNvSpPr/>
          <p:nvPr/>
        </p:nvSpPr>
        <p:spPr>
          <a:xfrm>
            <a:off x="4524480" y="6615000"/>
            <a:ext cx="675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99283-1CF7-4608-A986-B85D830FA603}" type="datetime">
              <a:rPr b="0" lang="de-DE" sz="10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Rectangle 7"/>
          <p:cNvSpPr/>
          <p:nvPr/>
        </p:nvSpPr>
        <p:spPr>
          <a:xfrm>
            <a:off x="8148960" y="6515280"/>
            <a:ext cx="75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3D671-F2EA-409B-BACA-E2447BA841C5}" type="slidenum">
              <a:rPr b="0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Rectangle 39">
            <a:hlinkClick r:id="rId2"/>
          </p:cNvPr>
          <p:cNvSpPr/>
          <p:nvPr/>
        </p:nvSpPr>
        <p:spPr>
          <a:xfrm>
            <a:off x="3914640" y="3105000"/>
            <a:ext cx="91440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Rectangle 40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41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ectangle 42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9" name="713fdfc0-1a72-49da-bd13-b47278f75372" descr="EAF3711E-BEB0-47E0-BD76-8002A3B4EEFA@localdomain"/>
          <p:cNvPicPr/>
          <p:nvPr/>
        </p:nvPicPr>
        <p:blipFill>
          <a:blip r:embed="rId3"/>
          <a:stretch/>
        </p:blipFill>
        <p:spPr>
          <a:xfrm>
            <a:off x="0" y="0"/>
            <a:ext cx="9144000" cy="95580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43" descr="_anderScore-Logo_2773x575_new"/>
          <p:cNvPicPr/>
          <p:nvPr/>
        </p:nvPicPr>
        <p:blipFill>
          <a:blip r:embed="rId4"/>
          <a:stretch/>
        </p:blipFill>
        <p:spPr>
          <a:xfrm>
            <a:off x="6084720" y="231840"/>
            <a:ext cx="2754360" cy="576360"/>
          </a:xfrm>
          <a:prstGeom prst="rect">
            <a:avLst/>
          </a:prstGeom>
          <a:ln w="0">
            <a:noFill/>
          </a:ln>
        </p:spPr>
      </p:pic>
      <p:sp>
        <p:nvSpPr>
          <p:cNvPr id="551" name="Text Box 24"/>
          <p:cNvSpPr/>
          <p:nvPr/>
        </p:nvSpPr>
        <p:spPr>
          <a:xfrm>
            <a:off x="251640" y="6429240"/>
            <a:ext cx="3033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anderScore GmbH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 Frankenwerft 35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 50667 Köl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&lt;Aut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0"/>
          <p:cNvSpPr/>
          <p:nvPr/>
        </p:nvSpPr>
        <p:spPr>
          <a:xfrm>
            <a:off x="4261320" y="6424560"/>
            <a:ext cx="114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&lt;Dateiname&gt;.pp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body"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f3c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47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0d4f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7924680" y="457200"/>
            <a:ext cx="89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6"/>
          <p:cNvSpPr/>
          <p:nvPr/>
        </p:nvSpPr>
        <p:spPr>
          <a:xfrm>
            <a:off x="4524480" y="6615000"/>
            <a:ext cx="675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5E574-DD49-4344-9A12-F620B81A9F91}" type="datetime">
              <a:rPr b="0" lang="de-DE" sz="10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7"/>
          <p:cNvSpPr/>
          <p:nvPr/>
        </p:nvSpPr>
        <p:spPr>
          <a:xfrm>
            <a:off x="8148960" y="6515280"/>
            <a:ext cx="75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97941-4A6E-4D76-A9B2-10EBE3FFC609}" type="slidenum">
              <a:rPr b="0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39">
            <a:hlinkClick r:id="rId2"/>
          </p:cNvPr>
          <p:cNvSpPr/>
          <p:nvPr/>
        </p:nvSpPr>
        <p:spPr>
          <a:xfrm>
            <a:off x="3914640" y="3105000"/>
            <a:ext cx="91440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40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41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42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9" name="713fdfc0-1a72-49da-bd13-b47278f75372" descr="EAF3711E-BEB0-47E0-BD76-8002A3B4EEFA@localdomain"/>
          <p:cNvPicPr/>
          <p:nvPr/>
        </p:nvPicPr>
        <p:blipFill>
          <a:blip r:embed="rId3"/>
          <a:stretch/>
        </p:blipFill>
        <p:spPr>
          <a:xfrm>
            <a:off x="0" y="0"/>
            <a:ext cx="9144000" cy="95580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43" descr="_anderScore-Logo_2773x575_new"/>
          <p:cNvPicPr/>
          <p:nvPr/>
        </p:nvPicPr>
        <p:blipFill>
          <a:blip r:embed="rId4"/>
          <a:stretch/>
        </p:blipFill>
        <p:spPr>
          <a:xfrm>
            <a:off x="6084720" y="231840"/>
            <a:ext cx="2754360" cy="576360"/>
          </a:xfrm>
          <a:prstGeom prst="rect">
            <a:avLst/>
          </a:prstGeom>
          <a:ln w="0">
            <a:noFill/>
          </a:ln>
        </p:spPr>
      </p:pic>
      <p:sp>
        <p:nvSpPr>
          <p:cNvPr id="601" name="Text Box 24"/>
          <p:cNvSpPr/>
          <p:nvPr/>
        </p:nvSpPr>
        <p:spPr>
          <a:xfrm>
            <a:off x="251640" y="6429240"/>
            <a:ext cx="3033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anderScore GmbH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 Frankenwerft 35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 50667 Köl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&lt;Aut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 Box 30"/>
          <p:cNvSpPr/>
          <p:nvPr/>
        </p:nvSpPr>
        <p:spPr>
          <a:xfrm>
            <a:off x="4261320" y="6424560"/>
            <a:ext cx="114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&lt;Dateiname&gt;.pp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body"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f3c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Picture 7" descr=""/>
          <p:cNvPicPr/>
          <p:nvPr/>
        </p:nvPicPr>
        <p:blipFill>
          <a:blip r:embed="rId2"/>
          <a:stretch/>
        </p:blipFill>
        <p:spPr>
          <a:xfrm>
            <a:off x="0" y="2001960"/>
            <a:ext cx="9144000" cy="2455920"/>
          </a:xfrm>
          <a:prstGeom prst="rect">
            <a:avLst/>
          </a:prstGeom>
          <a:ln w="0">
            <a:noFill/>
          </a:ln>
        </p:spPr>
      </p:pic>
      <p:sp>
        <p:nvSpPr>
          <p:cNvPr id="642" name="Text Box 10"/>
          <p:cNvSpPr/>
          <p:nvPr/>
        </p:nvSpPr>
        <p:spPr>
          <a:xfrm>
            <a:off x="8019360" y="4508640"/>
            <a:ext cx="1089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 2008 anderScore GmbH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Rectangle 11"/>
          <p:cNvSpPr/>
          <p:nvPr/>
        </p:nvSpPr>
        <p:spPr>
          <a:xfrm flipV="1" rot="20292000">
            <a:off x="5889240" y="4484160"/>
            <a:ext cx="72720" cy="7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Rectangle 12"/>
          <p:cNvSpPr/>
          <p:nvPr/>
        </p:nvSpPr>
        <p:spPr>
          <a:xfrm rot="20677200">
            <a:off x="5884560" y="4489200"/>
            <a:ext cx="730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5" name="Picture 13" descr=""/>
          <p:cNvPicPr/>
          <p:nvPr/>
        </p:nvPicPr>
        <p:blipFill>
          <a:blip r:embed="rId3"/>
          <a:stretch/>
        </p:blipFill>
        <p:spPr>
          <a:xfrm>
            <a:off x="5364000" y="620640"/>
            <a:ext cx="3381480" cy="714600"/>
          </a:xfrm>
          <a:prstGeom prst="rect">
            <a:avLst/>
          </a:prstGeom>
          <a:ln w="0">
            <a:noFill/>
          </a:ln>
        </p:spPr>
      </p:pic>
      <p:sp>
        <p:nvSpPr>
          <p:cNvPr id="646" name="Textfeld 8"/>
          <p:cNvSpPr/>
          <p:nvPr/>
        </p:nvSpPr>
        <p:spPr>
          <a:xfrm>
            <a:off x="7667640" y="4508640"/>
            <a:ext cx="1441440" cy="18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© Copyright 2013 anderScore GmbH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dt" idx="3"/>
          </p:nvPr>
        </p:nvSpPr>
        <p:spPr>
          <a:xfrm>
            <a:off x="394920" y="5373720"/>
            <a:ext cx="3600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ftr" idx="4"/>
          </p:nvPr>
        </p:nvSpPr>
        <p:spPr>
          <a:xfrm>
            <a:off x="2016000" y="6497280"/>
            <a:ext cx="5113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"/>
          <p:cNvPicPr/>
          <p:nvPr/>
        </p:nvPicPr>
        <p:blipFill>
          <a:blip r:embed="rId2"/>
          <a:stretch/>
        </p:blipFill>
        <p:spPr>
          <a:xfrm>
            <a:off x="0" y="2001960"/>
            <a:ext cx="9144000" cy="2455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dt" idx="1"/>
          </p:nvPr>
        </p:nvSpPr>
        <p:spPr>
          <a:xfrm>
            <a:off x="394920" y="5373720"/>
            <a:ext cx="3600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ftr" idx="2"/>
          </p:nvPr>
        </p:nvSpPr>
        <p:spPr>
          <a:xfrm>
            <a:off x="2016000" y="6497280"/>
            <a:ext cx="5113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8019360" y="4508640"/>
            <a:ext cx="1089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 2008 anderScore GmbH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1"/>
          <p:cNvSpPr/>
          <p:nvPr/>
        </p:nvSpPr>
        <p:spPr>
          <a:xfrm flipV="1" rot="20292000">
            <a:off x="5889240" y="4484160"/>
            <a:ext cx="72720" cy="7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2"/>
          <p:cNvSpPr/>
          <p:nvPr/>
        </p:nvSpPr>
        <p:spPr>
          <a:xfrm rot="20677200">
            <a:off x="5884560" y="4489200"/>
            <a:ext cx="730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13" descr=""/>
          <p:cNvPicPr/>
          <p:nvPr/>
        </p:nvPicPr>
        <p:blipFill>
          <a:blip r:embed="rId3"/>
          <a:stretch/>
        </p:blipFill>
        <p:spPr>
          <a:xfrm>
            <a:off x="5364000" y="620640"/>
            <a:ext cx="3381480" cy="71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47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0d4f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7924680" y="457200"/>
            <a:ext cx="89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4524480" y="6615000"/>
            <a:ext cx="675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68A8C-3F78-44EE-B511-153B414C3D1D}" type="datetime">
              <a:rPr b="0" lang="de-DE" sz="10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8148960" y="6515280"/>
            <a:ext cx="75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AB94F-1F82-4FD2-873B-31C31A3C8EEE}" type="slidenum">
              <a:rPr b="0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39">
            <a:hlinkClick r:id="rId2"/>
          </p:cNvPr>
          <p:cNvSpPr/>
          <p:nvPr/>
        </p:nvSpPr>
        <p:spPr>
          <a:xfrm>
            <a:off x="3914640" y="3105000"/>
            <a:ext cx="91440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40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41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42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713fdfc0-1a72-49da-bd13-b47278f75372" descr="EAF3711E-BEB0-47E0-BD76-8002A3B4EEFA@localdomain"/>
          <p:cNvPicPr/>
          <p:nvPr/>
        </p:nvPicPr>
        <p:blipFill>
          <a:blip r:embed="rId3"/>
          <a:stretch/>
        </p:blipFill>
        <p:spPr>
          <a:xfrm>
            <a:off x="0" y="0"/>
            <a:ext cx="9144000" cy="955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3" descr="_anderScore-Logo_2773x575_new"/>
          <p:cNvPicPr/>
          <p:nvPr/>
        </p:nvPicPr>
        <p:blipFill>
          <a:blip r:embed="rId4"/>
          <a:stretch/>
        </p:blipFill>
        <p:spPr>
          <a:xfrm>
            <a:off x="6084720" y="231840"/>
            <a:ext cx="2754360" cy="5763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24"/>
          <p:cNvSpPr/>
          <p:nvPr/>
        </p:nvSpPr>
        <p:spPr>
          <a:xfrm>
            <a:off x="251640" y="6429240"/>
            <a:ext cx="3033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anderScore GmbH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 Frankenwerft 35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 50667 Köl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&lt;Aut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30"/>
          <p:cNvSpPr/>
          <p:nvPr/>
        </p:nvSpPr>
        <p:spPr>
          <a:xfrm>
            <a:off x="4261320" y="6424560"/>
            <a:ext cx="114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&lt;Dateiname&gt;.pp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f3c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47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0d4f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7924680" y="457200"/>
            <a:ext cx="89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4524480" y="6615000"/>
            <a:ext cx="675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636CB-3DEA-4BBB-9A96-4867353511D0}" type="datetime">
              <a:rPr b="0" lang="de-DE" sz="10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8148960" y="6515280"/>
            <a:ext cx="75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DE9FC-D54C-4349-845E-6A5A901910C4}" type="slidenum">
              <a:rPr b="0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39">
            <a:hlinkClick r:id="rId2"/>
          </p:cNvPr>
          <p:cNvSpPr/>
          <p:nvPr/>
        </p:nvSpPr>
        <p:spPr>
          <a:xfrm>
            <a:off x="3914640" y="3105000"/>
            <a:ext cx="91440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40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41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42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713fdfc0-1a72-49da-bd13-b47278f75372" descr="EAF3711E-BEB0-47E0-BD76-8002A3B4EEFA@localdomain"/>
          <p:cNvPicPr/>
          <p:nvPr/>
        </p:nvPicPr>
        <p:blipFill>
          <a:blip r:embed="rId3"/>
          <a:stretch/>
        </p:blipFill>
        <p:spPr>
          <a:xfrm>
            <a:off x="0" y="0"/>
            <a:ext cx="9144000" cy="955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3" descr="_anderScore-Logo_2773x575_new"/>
          <p:cNvPicPr/>
          <p:nvPr/>
        </p:nvPicPr>
        <p:blipFill>
          <a:blip r:embed="rId4"/>
          <a:stretch/>
        </p:blipFill>
        <p:spPr>
          <a:xfrm>
            <a:off x="6084720" y="231840"/>
            <a:ext cx="2754360" cy="57636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24"/>
          <p:cNvSpPr/>
          <p:nvPr/>
        </p:nvSpPr>
        <p:spPr>
          <a:xfrm>
            <a:off x="251640" y="6429240"/>
            <a:ext cx="3033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anderScore GmbH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 Frankenwerft 35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 50667 Köl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Ralf Bommersb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30"/>
          <p:cNvSpPr/>
          <p:nvPr/>
        </p:nvSpPr>
        <p:spPr>
          <a:xfrm>
            <a:off x="4261320" y="6424560"/>
            <a:ext cx="172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Neue Features in JavaFX 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f3c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47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0d4f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7924680" y="457200"/>
            <a:ext cx="89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4524480" y="6615000"/>
            <a:ext cx="675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96908-A292-4EB1-841D-A5184C903BB5}" type="datetime">
              <a:rPr b="0" lang="de-DE" sz="10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8148960" y="6515280"/>
            <a:ext cx="75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7F6EB-E88E-4057-9F21-D7C43EFA668A}" type="slidenum">
              <a:rPr b="0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39">
            <a:hlinkClick r:id="rId2"/>
          </p:cNvPr>
          <p:cNvSpPr/>
          <p:nvPr/>
        </p:nvSpPr>
        <p:spPr>
          <a:xfrm>
            <a:off x="3914640" y="3105000"/>
            <a:ext cx="91440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40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41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42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713fdfc0-1a72-49da-bd13-b47278f75372" descr="EAF3711E-BEB0-47E0-BD76-8002A3B4EEFA@localdomain"/>
          <p:cNvPicPr/>
          <p:nvPr/>
        </p:nvPicPr>
        <p:blipFill>
          <a:blip r:embed="rId3"/>
          <a:stretch/>
        </p:blipFill>
        <p:spPr>
          <a:xfrm>
            <a:off x="0" y="0"/>
            <a:ext cx="9144000" cy="9558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3" descr="_anderScore-Logo_2773x575_new"/>
          <p:cNvPicPr/>
          <p:nvPr/>
        </p:nvPicPr>
        <p:blipFill>
          <a:blip r:embed="rId4"/>
          <a:stretch/>
        </p:blipFill>
        <p:spPr>
          <a:xfrm>
            <a:off x="6084720" y="231840"/>
            <a:ext cx="2754360" cy="57636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24"/>
          <p:cNvSpPr/>
          <p:nvPr/>
        </p:nvSpPr>
        <p:spPr>
          <a:xfrm>
            <a:off x="251640" y="6429240"/>
            <a:ext cx="3033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anderScore GmbH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 Frankenwerft 35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 50667 Köl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&lt;Aut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30"/>
          <p:cNvSpPr/>
          <p:nvPr/>
        </p:nvSpPr>
        <p:spPr>
          <a:xfrm>
            <a:off x="4261320" y="6424560"/>
            <a:ext cx="114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&lt;Dateiname&gt;.pp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f3c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47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0d4f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7924680" y="457200"/>
            <a:ext cx="89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4524480" y="6615000"/>
            <a:ext cx="675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B5F44-19AB-4A25-B46E-78CB0FD60AD5}" type="datetime">
              <a:rPr b="0" lang="de-DE" sz="10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8148960" y="6515280"/>
            <a:ext cx="75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1BF8B-F099-4B76-A595-A92CBEC8421E}" type="slidenum">
              <a:rPr b="0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39">
            <a:hlinkClick r:id="rId2"/>
          </p:cNvPr>
          <p:cNvSpPr/>
          <p:nvPr/>
        </p:nvSpPr>
        <p:spPr>
          <a:xfrm>
            <a:off x="3914640" y="3105000"/>
            <a:ext cx="91440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40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41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42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713fdfc0-1a72-49da-bd13-b47278f75372" descr="EAF3711E-BEB0-47E0-BD76-8002A3B4EEFA@localdomain"/>
          <p:cNvPicPr/>
          <p:nvPr/>
        </p:nvPicPr>
        <p:blipFill>
          <a:blip r:embed="rId3"/>
          <a:stretch/>
        </p:blipFill>
        <p:spPr>
          <a:xfrm>
            <a:off x="0" y="0"/>
            <a:ext cx="9144000" cy="9558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43" descr="_anderScore-Logo_2773x575_new"/>
          <p:cNvPicPr/>
          <p:nvPr/>
        </p:nvPicPr>
        <p:blipFill>
          <a:blip r:embed="rId4"/>
          <a:stretch/>
        </p:blipFill>
        <p:spPr>
          <a:xfrm>
            <a:off x="6084720" y="231840"/>
            <a:ext cx="2754360" cy="57636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24"/>
          <p:cNvSpPr/>
          <p:nvPr/>
        </p:nvSpPr>
        <p:spPr>
          <a:xfrm>
            <a:off x="251640" y="6429240"/>
            <a:ext cx="3033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anderScore GmbH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 Frankenwerft 35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 50667 Köl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&lt;Aut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0"/>
          <p:cNvSpPr/>
          <p:nvPr/>
        </p:nvSpPr>
        <p:spPr>
          <a:xfrm>
            <a:off x="4261320" y="6424560"/>
            <a:ext cx="114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&lt;Dateiname&gt;.pp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body"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f3c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47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0d4f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7924680" y="457200"/>
            <a:ext cx="89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6"/>
          <p:cNvSpPr/>
          <p:nvPr/>
        </p:nvSpPr>
        <p:spPr>
          <a:xfrm>
            <a:off x="4524480" y="6615000"/>
            <a:ext cx="675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E3DE9-458A-4D84-9FCE-6418F7F8C15E}" type="datetime">
              <a:rPr b="0" lang="de-DE" sz="10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7"/>
          <p:cNvSpPr/>
          <p:nvPr/>
        </p:nvSpPr>
        <p:spPr>
          <a:xfrm>
            <a:off x="8148960" y="6515280"/>
            <a:ext cx="75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FD215-3FBD-4775-800B-950712253F4F}" type="slidenum">
              <a:rPr b="0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39">
            <a:hlinkClick r:id="rId2"/>
          </p:cNvPr>
          <p:cNvSpPr/>
          <p:nvPr/>
        </p:nvSpPr>
        <p:spPr>
          <a:xfrm>
            <a:off x="3914640" y="3105000"/>
            <a:ext cx="91440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40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41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42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713fdfc0-1a72-49da-bd13-b47278f75372" descr="EAF3711E-BEB0-47E0-BD76-8002A3B4EEFA@localdomain"/>
          <p:cNvPicPr/>
          <p:nvPr/>
        </p:nvPicPr>
        <p:blipFill>
          <a:blip r:embed="rId3"/>
          <a:stretch/>
        </p:blipFill>
        <p:spPr>
          <a:xfrm>
            <a:off x="0" y="0"/>
            <a:ext cx="9144000" cy="9558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43" descr="_anderScore-Logo_2773x575_new"/>
          <p:cNvPicPr/>
          <p:nvPr/>
        </p:nvPicPr>
        <p:blipFill>
          <a:blip r:embed="rId4"/>
          <a:stretch/>
        </p:blipFill>
        <p:spPr>
          <a:xfrm>
            <a:off x="6084720" y="231840"/>
            <a:ext cx="2754360" cy="57636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24"/>
          <p:cNvSpPr/>
          <p:nvPr/>
        </p:nvSpPr>
        <p:spPr>
          <a:xfrm>
            <a:off x="251640" y="6429240"/>
            <a:ext cx="3033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anderScore GmbH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 Frankenwerft 35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 50667 Köl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&lt;Aut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30"/>
          <p:cNvSpPr/>
          <p:nvPr/>
        </p:nvSpPr>
        <p:spPr>
          <a:xfrm>
            <a:off x="4261320" y="6424560"/>
            <a:ext cx="114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&lt;Dateiname&gt;.pp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f3c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47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0d4f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5"/>
          <p:cNvSpPr/>
          <p:nvPr/>
        </p:nvSpPr>
        <p:spPr>
          <a:xfrm>
            <a:off x="7924680" y="457200"/>
            <a:ext cx="89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6"/>
          <p:cNvSpPr/>
          <p:nvPr/>
        </p:nvSpPr>
        <p:spPr>
          <a:xfrm>
            <a:off x="4524480" y="6615000"/>
            <a:ext cx="675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8C5B2-778B-4BD7-BDB3-0363AEA5DE69}" type="datetime">
              <a:rPr b="0" lang="de-DE" sz="10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7"/>
          <p:cNvSpPr/>
          <p:nvPr/>
        </p:nvSpPr>
        <p:spPr>
          <a:xfrm>
            <a:off x="8148960" y="6515280"/>
            <a:ext cx="75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DCCB5-68B1-47BF-A05D-EB910E70BD69}" type="slidenum">
              <a:rPr b="0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39">
            <a:hlinkClick r:id="rId2"/>
          </p:cNvPr>
          <p:cNvSpPr/>
          <p:nvPr/>
        </p:nvSpPr>
        <p:spPr>
          <a:xfrm>
            <a:off x="3914640" y="3105000"/>
            <a:ext cx="91440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40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41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42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713fdfc0-1a72-49da-bd13-b47278f75372" descr="EAF3711E-BEB0-47E0-BD76-8002A3B4EEFA@localdomain"/>
          <p:cNvPicPr/>
          <p:nvPr/>
        </p:nvPicPr>
        <p:blipFill>
          <a:blip r:embed="rId3"/>
          <a:stretch/>
        </p:blipFill>
        <p:spPr>
          <a:xfrm>
            <a:off x="0" y="0"/>
            <a:ext cx="9144000" cy="9558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3" descr="_anderScore-Logo_2773x575_new"/>
          <p:cNvPicPr/>
          <p:nvPr/>
        </p:nvPicPr>
        <p:blipFill>
          <a:blip r:embed="rId4"/>
          <a:stretch/>
        </p:blipFill>
        <p:spPr>
          <a:xfrm>
            <a:off x="6084720" y="231840"/>
            <a:ext cx="2754360" cy="57636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24"/>
          <p:cNvSpPr/>
          <p:nvPr/>
        </p:nvSpPr>
        <p:spPr>
          <a:xfrm>
            <a:off x="251640" y="6429240"/>
            <a:ext cx="3033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anderScore GmbH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 Frankenwerft 35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 50667 Köl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&lt;Aut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30"/>
          <p:cNvSpPr/>
          <p:nvPr/>
        </p:nvSpPr>
        <p:spPr>
          <a:xfrm>
            <a:off x="4261320" y="6424560"/>
            <a:ext cx="114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&lt;Dateiname&gt;.pp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body"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f3c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47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0d4f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7924680" y="457200"/>
            <a:ext cx="89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6"/>
          <p:cNvSpPr/>
          <p:nvPr/>
        </p:nvSpPr>
        <p:spPr>
          <a:xfrm>
            <a:off x="4524480" y="6615000"/>
            <a:ext cx="675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4CDAA-1798-45CD-B0AE-EDADF2A7E0F6}" type="datetime">
              <a:rPr b="0" lang="de-DE" sz="10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7"/>
          <p:cNvSpPr/>
          <p:nvPr/>
        </p:nvSpPr>
        <p:spPr>
          <a:xfrm>
            <a:off x="8148960" y="6515280"/>
            <a:ext cx="75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66AE2-A671-48CB-9209-EB0A9B779059}" type="slidenum">
              <a:rPr b="0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39">
            <a:hlinkClick r:id="rId2"/>
          </p:cNvPr>
          <p:cNvSpPr/>
          <p:nvPr/>
        </p:nvSpPr>
        <p:spPr>
          <a:xfrm>
            <a:off x="3914640" y="3105000"/>
            <a:ext cx="91440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40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41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42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713fdfc0-1a72-49da-bd13-b47278f75372" descr="EAF3711E-BEB0-47E0-BD76-8002A3B4EEFA@localdomain"/>
          <p:cNvPicPr/>
          <p:nvPr/>
        </p:nvPicPr>
        <p:blipFill>
          <a:blip r:embed="rId3"/>
          <a:stretch/>
        </p:blipFill>
        <p:spPr>
          <a:xfrm>
            <a:off x="0" y="0"/>
            <a:ext cx="9144000" cy="9558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43" descr="_anderScore-Logo_2773x575_new"/>
          <p:cNvPicPr/>
          <p:nvPr/>
        </p:nvPicPr>
        <p:blipFill>
          <a:blip r:embed="rId4"/>
          <a:stretch/>
        </p:blipFill>
        <p:spPr>
          <a:xfrm>
            <a:off x="6084720" y="231840"/>
            <a:ext cx="2754360" cy="576360"/>
          </a:xfrm>
          <a:prstGeom prst="rect">
            <a:avLst/>
          </a:prstGeom>
          <a:ln w="0">
            <a:noFill/>
          </a:ln>
        </p:spPr>
      </p:pic>
      <p:sp>
        <p:nvSpPr>
          <p:cNvPr id="401" name="Text Box 24"/>
          <p:cNvSpPr/>
          <p:nvPr/>
        </p:nvSpPr>
        <p:spPr>
          <a:xfrm>
            <a:off x="251640" y="6429240"/>
            <a:ext cx="3033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anderScore GmbH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 Frankenwerft 35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 50667 Köl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&lt;Aut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30"/>
          <p:cNvSpPr/>
          <p:nvPr/>
        </p:nvSpPr>
        <p:spPr>
          <a:xfrm>
            <a:off x="4261320" y="6424560"/>
            <a:ext cx="114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&lt;Dateiname&gt;.pp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body"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f3c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openjdk.java.net/projects/openjfx/" TargetMode="External"/><Relationship Id="rId2" Type="http://schemas.openxmlformats.org/officeDocument/2006/relationships/hyperlink" Target="https://wiki.openjdk.java.net/display/OpenJFX/Main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fxclipse.bestsolution.at/install.html#all-in-one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68360" y="2562120"/>
            <a:ext cx="496728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Neue Features </a:t>
            </a:r>
            <a:br>
              <a:rPr sz="4400"/>
            </a:b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in JavaFX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subTitle"/>
          </p:nvPr>
        </p:nvSpPr>
        <p:spPr>
          <a:xfrm>
            <a:off x="468000" y="4462560"/>
            <a:ext cx="3382920" cy="6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0.8.2014,  Ralf Bommersb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Picture 5" descr="C:\Users\rbommersbach\Desktop\froscon_logo.jpg"/>
          <p:cNvPicPr/>
          <p:nvPr/>
        </p:nvPicPr>
        <p:blipFill>
          <a:blip r:embed="rId1"/>
          <a:stretch/>
        </p:blipFill>
        <p:spPr>
          <a:xfrm>
            <a:off x="539640" y="333360"/>
            <a:ext cx="366732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d4f3c"/>
                </a:solidFill>
                <a:latin typeface="Arial"/>
              </a:rPr>
              <a:t>Weitere Features: Datepicker</a:t>
            </a:r>
            <a:endParaRPr b="0" lang="en-US" sz="28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302760" y="1197000"/>
            <a:ext cx="3837240" cy="51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lich (!) ein Datepicker als GUI-Komponente ohne Einbindung externer Bibliotheken verfüg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ch CSS anpass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terstützt die neue Java SE 8 Date and Time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4" name="Grafik 3" descr="datepicker.jpg"/>
          <p:cNvPicPr/>
          <p:nvPr/>
        </p:nvPicPr>
        <p:blipFill>
          <a:blip r:embed="rId1"/>
          <a:stretch/>
        </p:blipFill>
        <p:spPr>
          <a:xfrm>
            <a:off x="3875040" y="1197000"/>
            <a:ext cx="50180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d4f3c"/>
                </a:solidFill>
                <a:latin typeface="Arial"/>
              </a:rPr>
              <a:t>Weitere Features: </a:t>
            </a:r>
            <a:br>
              <a:rPr sz="2800"/>
            </a:br>
            <a:r>
              <a:rPr b="0" lang="de-DE" sz="2800" spc="-1" strike="noStrike">
                <a:solidFill>
                  <a:srgbClr val="0d4f3c"/>
                </a:solidFill>
                <a:latin typeface="Arial"/>
              </a:rPr>
              <a:t>Modena Theme</a:t>
            </a:r>
            <a:endParaRPr b="0" lang="en-US" sz="28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736" name=""/>
          <p:cNvSpPr txBox="1"/>
          <p:nvPr/>
        </p:nvSpPr>
        <p:spPr>
          <a:xfrm>
            <a:off x="323640" y="1196640"/>
            <a:ext cx="347652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ues Default Theme “Moden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-Platform (keine nativen Themes in Version 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Über CSS Erstellung eigener Themes (z.B. AquaFX für Mac 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me wechsel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7" name=""/>
          <p:cNvGraphicFramePr/>
          <p:nvPr/>
        </p:nvGraphicFramePr>
        <p:xfrm>
          <a:off x="4140360" y="4724280"/>
          <a:ext cx="4608360" cy="1584360"/>
        </p:xfrm>
        <a:graphic>
          <a:graphicData uri="http://schemas.openxmlformats.org/drawingml/2006/table">
            <a:tbl>
              <a:tblPr/>
              <a:tblGrid>
                <a:gridCol w="147600"/>
                <a:gridCol w="4460760"/>
              </a:tblGrid>
              <a:tr h="198036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public class MyApplication extends Application {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public void start(Stage stage) {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..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setUserAgentStylesheet(STYLESHEET_CASPIAN)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..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}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}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eee"/>
                    </a:solidFill>
                  </a:tcPr>
                </a:tc>
              </a:tr>
            </a:tbl>
          </a:graphicData>
        </a:graphic>
      </p:graphicFrame>
      <p:sp>
        <p:nvSpPr>
          <p:cNvPr id="738" name="Eingekerbter Pfeil nach rechts 6"/>
          <p:cNvSpPr/>
          <p:nvPr/>
        </p:nvSpPr>
        <p:spPr>
          <a:xfrm>
            <a:off x="2843280" y="5084640"/>
            <a:ext cx="979560" cy="486000"/>
          </a:xfrm>
          <a:custGeom>
            <a:avLst/>
            <a:gdLst>
              <a:gd name="textAreaLeft" fmla="*/ 121320 w 979560"/>
              <a:gd name="textAreaRight" fmla="*/ 858240 w 97956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50" y="5400"/>
                </a:lnTo>
                <a:lnTo>
                  <a:pt x="16250" y="0"/>
                </a:lnTo>
                <a:lnTo>
                  <a:pt x="21600" y="10800"/>
                </a:lnTo>
                <a:lnTo>
                  <a:pt x="16250" y="21600"/>
                </a:lnTo>
                <a:lnTo>
                  <a:pt x="16250" y="16200"/>
                </a:lnTo>
                <a:lnTo>
                  <a:pt x="0" y="16200"/>
                </a:lnTo>
                <a:lnTo>
                  <a:pt x="2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99b8a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9" name="Grafik 4" descr="modena_caspian_comparison.jpg"/>
          <p:cNvPicPr/>
          <p:nvPr/>
        </p:nvPicPr>
        <p:blipFill>
          <a:blip r:embed="rId1"/>
          <a:stretch/>
        </p:blipFill>
        <p:spPr>
          <a:xfrm>
            <a:off x="3672000" y="981000"/>
            <a:ext cx="5472000" cy="39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d4f3c"/>
                </a:solidFill>
                <a:latin typeface="Arial"/>
              </a:rPr>
              <a:t>Weitere Features: TreetableView</a:t>
            </a:r>
            <a:endParaRPr b="0" lang="en-US" sz="28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324000" y="1197000"/>
            <a:ext cx="8424720" cy="17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ele Businessanwendungen in Swing benutzen diese Komponen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ine entsprechende Komponente in JavaFX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2" name="Grafik 8" descr="single-selection-treetable.png"/>
          <p:cNvPicPr/>
          <p:nvPr/>
        </p:nvPicPr>
        <p:blipFill>
          <a:blip r:embed="rId1"/>
          <a:stretch/>
        </p:blipFill>
        <p:spPr>
          <a:xfrm>
            <a:off x="755640" y="2997360"/>
            <a:ext cx="77500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d4f3c"/>
                </a:solidFill>
                <a:latin typeface="Arial"/>
              </a:rPr>
              <a:t>Weitere Features: Print API</a:t>
            </a:r>
            <a:endParaRPr b="0" lang="en-US" sz="28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744" name="Inhaltsplatzhalter 2"/>
          <p:cNvSpPr/>
          <p:nvPr/>
        </p:nvSpPr>
        <p:spPr>
          <a:xfrm>
            <a:off x="303120" y="1125360"/>
            <a:ext cx="851688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gleichbar mit der Print API in S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008c5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int API Klasse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in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interJ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WebView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bietet direkte Unterstützung des Print-API: 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WebView.getEngine().print(PrinterJob jo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c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5" name=""/>
          <p:cNvGraphicFramePr/>
          <p:nvPr/>
        </p:nvGraphicFramePr>
        <p:xfrm>
          <a:off x="250920" y="2924280"/>
          <a:ext cx="8569080" cy="3529080"/>
        </p:xfrm>
        <a:graphic>
          <a:graphicData uri="http://schemas.openxmlformats.org/drawingml/2006/table">
            <a:tbl>
              <a:tblPr/>
              <a:tblGrid>
                <a:gridCol w="339480"/>
                <a:gridCol w="8229600"/>
              </a:tblGrid>
              <a:tr h="356436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public void print(final Node node) {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Printer printer = Printer.getDefaultPrinter()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PageLayout pageLayout = printer.createPageLayout(Paper.A4, PageOrientation.PORTRAIT, Printer.MarginType.DEFAULT)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double scaleX = pageLayout.getPrintableWidth() / node.getBoundsInParent().getWidth()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double scaleY = pageLayout.getPrintableHeight() / node.getBoundsInParent().getHeight()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node.getTransforms().add(new Scale(scaleX, scaleY))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PrinterJob job = PrinterJob.createPrinterJob()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if (job != null) {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boolean success = job.printPage(node)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if (success) {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  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job.endJob()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}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}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}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e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d4f3c"/>
                </a:solidFill>
                <a:latin typeface="Arial"/>
              </a:rPr>
              <a:t>Weitere Features: Swing &amp; JavaFX finden zueinander</a:t>
            </a:r>
            <a:endParaRPr b="0" lang="en-US" sz="28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324000" y="1052640"/>
            <a:ext cx="8516880" cy="345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JFXPanel (seit JavaFX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c5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wing-Komponente um JavaFX Views in Swing zu integr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wingNode (seit JavaFX 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601"/>
              </a:spcBef>
              <a:buClr>
                <a:srgbClr val="008c5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m Swing-Inhalte in eine JavaFX-Umgebung integr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icht vergessen(!) </a:t>
            </a: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Swing Event Dispatch Thread und JavaFX Applikation Thread synchronisier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8" name=""/>
          <p:cNvGraphicFramePr/>
          <p:nvPr/>
        </p:nvGraphicFramePr>
        <p:xfrm>
          <a:off x="1187280" y="4508640"/>
          <a:ext cx="6624720" cy="1728720"/>
        </p:xfrm>
        <a:graphic>
          <a:graphicData uri="http://schemas.openxmlformats.org/drawingml/2006/table">
            <a:tbl>
              <a:tblPr/>
              <a:tblGrid>
                <a:gridCol w="212760"/>
                <a:gridCol w="6411960"/>
              </a:tblGrid>
              <a:tr h="172872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Label labelFX = new Label("JavaFX Label")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JButton buttonSwing = new JButton("Swing Button")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button.addActionListener(event -&gt; {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Platform.runLater(() -&gt; labelFX.setText("Swing aktualisiert JavaFX"))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})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e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d4f3c"/>
                </a:solidFill>
                <a:latin typeface="Arial"/>
              </a:rPr>
              <a:t>Weitere Features im Überblick</a:t>
            </a:r>
            <a:endParaRPr b="0" lang="en-US" sz="28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bVi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8c5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n u.a. auch mit WebSockets, Web Workers, besserer HTML5/JS Unterstützung sowie Drucken von HTML-Sei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vas AP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8c5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eichne direkt auf einer einzelnen graphischen Node in der Sz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touch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8c5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erend auf den Möglichkeiten der entspr. Platt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-DPI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8c5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.B. für Retina Displ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dware-accelerated graphics pipel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8c5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t Hilfe der Graphics Rendering Pipeline Pr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-performance media eng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8c5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möglicht Playback von (Web) Multimedia Inhalten (basierend auf dem GStreamer multimedia framewor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d4f3c"/>
                </a:solidFill>
                <a:latin typeface="Arial"/>
              </a:rPr>
              <a:t>Fazit</a:t>
            </a:r>
            <a:endParaRPr b="0" lang="en-US" sz="28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2410920" y="2637000"/>
            <a:ext cx="4464360" cy="151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6a42"/>
                </a:solidFill>
                <a:latin typeface="Arial"/>
              </a:rPr>
              <a:t>We </a:t>
            </a:r>
            <a:r>
              <a:rPr b="1" lang="de-DE" sz="4000" spc="-1" strike="noStrike">
                <a:solidFill>
                  <a:srgbClr val="c00000"/>
                </a:solidFill>
                <a:latin typeface="Arial"/>
              </a:rPr>
              <a:t>&lt;3</a:t>
            </a:r>
            <a:r>
              <a:rPr b="1" lang="de-DE" sz="4000" spc="-1" strike="noStrike">
                <a:solidFill>
                  <a:srgbClr val="006a42"/>
                </a:solidFill>
                <a:latin typeface="Arial"/>
              </a:rPr>
              <a:t> JavaFX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864300"/>
                </a:solidFill>
                <a:latin typeface="Arial"/>
              </a:rPr>
              <a:t>(Noch Fragen?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d4f3c"/>
                </a:solidFill>
                <a:latin typeface="Arial"/>
              </a:rPr>
              <a:t>Links</a:t>
            </a:r>
            <a:endParaRPr b="0" lang="en-US" sz="28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303120" y="1197000"/>
            <a:ext cx="8516880" cy="51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de Samples und Slides dieser Präs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s://github.com/mjohenneken/anderscore-FrOSCon-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enebuilder 2.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ttp://www.oracle.com/technetwork/java/javase/downloads/javafxscenebuilder-info-2157684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etting started with JavaFX and Overview of Key Fea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ttp://docs.oracle.com/javase/8/javafx/get-started-tutorial/javafx_get_started.htm#JFXST78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racle Java Documentation: Getting Started with JavaFX 3D Graph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ttp://docs.oracle.com/javase/8/javafx/graphics-tutorial/javafx-3d-graphics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racle Java Documentation: How do I run a sample Application (including 3DViewer.ja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ttp://docs.oracle.com/javase/8/javafx/get-started-tutorial/jfx-overview.htm#BABHGFA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racle Java Documentation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ch Text API Samp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s://wikis.oracle.com/display/OpenJDK/Rich+Text+API+Samp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Grafik 19" descr="micha_schiffe_.jpeg"/>
          <p:cNvPicPr/>
          <p:nvPr/>
        </p:nvPicPr>
        <p:blipFill>
          <a:blip r:embed="rId1"/>
          <a:stretch/>
        </p:blipFill>
        <p:spPr>
          <a:xfrm>
            <a:off x="250920" y="1125360"/>
            <a:ext cx="8626320" cy="4967640"/>
          </a:xfrm>
          <a:prstGeom prst="rect">
            <a:avLst/>
          </a:prstGeom>
          <a:ln w="0">
            <a:noFill/>
          </a:ln>
        </p:spPr>
      </p:pic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34099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d4f3c"/>
                </a:solidFill>
                <a:latin typeface="Arial"/>
              </a:rPr>
              <a:t>Inhalt</a:t>
            </a:r>
            <a:endParaRPr b="0" lang="en-US" sz="28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697" name="Text Box 7"/>
          <p:cNvSpPr/>
          <p:nvPr/>
        </p:nvSpPr>
        <p:spPr>
          <a:xfrm>
            <a:off x="395280" y="1125360"/>
            <a:ext cx="74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. Einführ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Text Box 8"/>
          <p:cNvSpPr/>
          <p:nvPr/>
        </p:nvSpPr>
        <p:spPr>
          <a:xfrm>
            <a:off x="395280" y="1845360"/>
            <a:ext cx="74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. JavaFX goes Open 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Text Box 9"/>
          <p:cNvSpPr/>
          <p:nvPr/>
        </p:nvSpPr>
        <p:spPr>
          <a:xfrm>
            <a:off x="395280" y="2491560"/>
            <a:ext cx="741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. Tools: Scenbuilder 2.0, e(fx)clip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10"/>
          <p:cNvSpPr/>
          <p:nvPr/>
        </p:nvSpPr>
        <p:spPr>
          <a:xfrm>
            <a:off x="395280" y="3933000"/>
            <a:ext cx="741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4. JavaFX goes 3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Rechteck 14"/>
          <p:cNvSpPr/>
          <p:nvPr/>
        </p:nvSpPr>
        <p:spPr>
          <a:xfrm>
            <a:off x="246240" y="3703680"/>
            <a:ext cx="878652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Rechteck 16"/>
          <p:cNvSpPr/>
          <p:nvPr/>
        </p:nvSpPr>
        <p:spPr>
          <a:xfrm>
            <a:off x="0" y="1557360"/>
            <a:ext cx="889308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Rechteck 17"/>
          <p:cNvSpPr/>
          <p:nvPr/>
        </p:nvSpPr>
        <p:spPr>
          <a:xfrm>
            <a:off x="257040" y="4467240"/>
            <a:ext cx="878688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Rechteck 16"/>
          <p:cNvSpPr/>
          <p:nvPr/>
        </p:nvSpPr>
        <p:spPr>
          <a:xfrm>
            <a:off x="388800" y="2936880"/>
            <a:ext cx="856944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9"/>
          <p:cNvSpPr/>
          <p:nvPr/>
        </p:nvSpPr>
        <p:spPr>
          <a:xfrm>
            <a:off x="395280" y="314244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. Richtext Support in JavaFX 8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Rechteck 17"/>
          <p:cNvSpPr/>
          <p:nvPr/>
        </p:nvSpPr>
        <p:spPr>
          <a:xfrm>
            <a:off x="138240" y="5300640"/>
            <a:ext cx="878652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Rechteck 13"/>
          <p:cNvSpPr/>
          <p:nvPr/>
        </p:nvSpPr>
        <p:spPr>
          <a:xfrm>
            <a:off x="395280" y="4724280"/>
            <a:ext cx="84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5. Weitere Fea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Rechteck 16"/>
          <p:cNvSpPr/>
          <p:nvPr/>
        </p:nvSpPr>
        <p:spPr>
          <a:xfrm>
            <a:off x="260280" y="2357280"/>
            <a:ext cx="878688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Rechteck 15"/>
          <p:cNvSpPr/>
          <p:nvPr/>
        </p:nvSpPr>
        <p:spPr>
          <a:xfrm>
            <a:off x="395280" y="5516640"/>
            <a:ext cx="84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6. Fazit, Lin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d4f3c"/>
                </a:solidFill>
                <a:latin typeface="Arial"/>
              </a:rPr>
              <a:t>Einführung: Über mich</a:t>
            </a:r>
            <a:endParaRPr b="0" lang="en-US" sz="28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1908000" y="981000"/>
            <a:ext cx="69120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oftware Engineer (Dipl.-Inf.) bei der anderScore GmbH in Köl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hrjährige Erfahrung m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c5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bjektorientierter Software-Entwicklung, vornehmlich in Java SE/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c5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ellierung, Analyse und Entwurf von Geschäftsprozessen und Anwendungslog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c5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ystemarchitektur mehrschichtiger (verteilter) Anwend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c5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sign und Implementierung von Web Servi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c5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gration von Altsystem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c5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gilen Entwicklungsmetho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2" name="Picture 4" descr="C:\Users\rbommersbach\Desktop\User-rbommersbach.jpg"/>
          <p:cNvPicPr/>
          <p:nvPr/>
        </p:nvPicPr>
        <p:blipFill>
          <a:blip r:embed="rId1"/>
          <a:stretch/>
        </p:blipFill>
        <p:spPr>
          <a:xfrm>
            <a:off x="395280" y="1052640"/>
            <a:ext cx="13748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d4f3c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d4f3c"/>
                </a:solidFill>
                <a:latin typeface="Arial"/>
              </a:rPr>
              <a:t>JavaFX goes Open Source</a:t>
            </a:r>
            <a:endParaRPr b="0" lang="en-US" sz="28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250920" y="1196640"/>
            <a:ext cx="851688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vaFX 8 fully open sour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c5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kt URL: </a:t>
            </a:r>
            <a:br>
              <a:rPr sz="2000"/>
            </a:b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openjdk.java.net/projects/openjfx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c5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ki (Build Instructions, etc.):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2"/>
              </a:rPr>
              <a:t>https://wiki.openjdk.java.net/display/OpenJFX/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c5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nfaches Einbetten aller Sourcen in eine IDE (z.B. Eclipse) durc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avafx-src.zi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im JDK 8 root folder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vaFX nun auf dem Standard Klassenpf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c5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FX liegt nun endlich auf dem default runtime classpath einer Oracle Java implementation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re/lib/ext/jfxrt.j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und ist damit ein vollständig integrierter Teil des Java JDK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5" name="Grafik 3" descr="openjdk.jpg"/>
          <p:cNvPicPr/>
          <p:nvPr/>
        </p:nvPicPr>
        <p:blipFill>
          <a:blip r:embed="rId3"/>
          <a:stretch/>
        </p:blipFill>
        <p:spPr>
          <a:xfrm>
            <a:off x="6012000" y="981000"/>
            <a:ext cx="293364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d4f3c"/>
                </a:solidFill>
                <a:latin typeface="Arial"/>
              </a:rPr>
              <a:t>Tools: Scenebuilder 2.0</a:t>
            </a:r>
            <a:endParaRPr b="0" lang="en-US" sz="28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303120" y="1196640"/>
            <a:ext cx="4340160" cy="48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ktives Design der G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iert FXML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sion 2.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c5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t JavaFX 8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c5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terstützt selbsterstellte Komponen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c5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terstützt JavaFX 3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c5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ssere IDE Inte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70c0"/>
                </a:solidFill>
                <a:latin typeface="Arial"/>
              </a:rPr>
              <a:t>{ DEMO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Picture 2" descr=""/>
          <p:cNvPicPr/>
          <p:nvPr/>
        </p:nvPicPr>
        <p:blipFill>
          <a:blip r:embed="rId1"/>
          <a:stretch/>
        </p:blipFill>
        <p:spPr>
          <a:xfrm>
            <a:off x="4788000" y="1125360"/>
            <a:ext cx="414324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d4f3c"/>
                </a:solidFill>
                <a:latin typeface="Arial"/>
              </a:rPr>
              <a:t>Tools: e(fx) Eclipse Addon</a:t>
            </a:r>
            <a:endParaRPr b="0" lang="en-US" sz="28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303120" y="1196640"/>
            <a:ext cx="4340160" cy="48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fohlenes Eclipse-Plugin für JavaFX 8 Entwickl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ches eclips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JDK 8 re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(all-in-one bundle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c5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efxclipse.bestsolution.at/install.html#all-in-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1" name="Picture 2" descr=""/>
          <p:cNvPicPr/>
          <p:nvPr/>
        </p:nvPicPr>
        <p:blipFill>
          <a:blip r:embed="rId2"/>
          <a:stretch/>
        </p:blipFill>
        <p:spPr>
          <a:xfrm>
            <a:off x="4788000" y="1268280"/>
            <a:ext cx="4211640" cy="37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d4f3c"/>
                </a:solidFill>
                <a:latin typeface="Arial"/>
              </a:rPr>
              <a:t>Richtext Support in JavaFX 8</a:t>
            </a:r>
            <a:endParaRPr b="0" lang="en-US" sz="28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303120" y="1125000"/>
            <a:ext cx="8516880" cy="223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ue Klasse Text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c5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fluss mit versch. Fonts, Styles, Grafiken, Nodes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c5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isches Wrapping des Textes bei Window resize mögl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70c0"/>
                </a:solidFill>
                <a:latin typeface="Arial"/>
              </a:rPr>
              <a:t>{ DEMO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4" name="Picture 5" descr=""/>
          <p:cNvPicPr/>
          <p:nvPr/>
        </p:nvPicPr>
        <p:blipFill>
          <a:blip r:embed="rId1"/>
          <a:stretch/>
        </p:blipFill>
        <p:spPr>
          <a:xfrm>
            <a:off x="324000" y="3500280"/>
            <a:ext cx="849600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d4f3c"/>
                </a:solidFill>
                <a:latin typeface="Arial"/>
              </a:rPr>
              <a:t>JavaFX goes 3D: </a:t>
            </a:r>
            <a:br>
              <a:rPr sz="2800"/>
            </a:br>
            <a:r>
              <a:rPr b="0" lang="de-DE" sz="2800" spc="-1" strike="noStrike">
                <a:solidFill>
                  <a:srgbClr val="0d4f3c"/>
                </a:solidFill>
                <a:latin typeface="Arial"/>
              </a:rPr>
              <a:t>Shape3D und Konsorten</a:t>
            </a:r>
            <a:endParaRPr b="0" lang="en-US" sz="28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323640" y="1125000"/>
            <a:ext cx="5111640" cy="518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Shape3D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class Hierarch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javafx.scene.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javafx.scene.shape.Shape3D (abstrac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javafx.scene.shape.Mesh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javafx.scene.shape.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javafx.scene.shape.Cyli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javafx.scene.shape.Sp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esh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Class Hierarch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javafx.scene.shape.Mesh (abstra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javafx.scene.shape.TriangleMe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Inhaltsplatzhalter 2"/>
          <p:cNvSpPr/>
          <p:nvPr/>
        </p:nvSpPr>
        <p:spPr>
          <a:xfrm>
            <a:off x="5091120" y="3860640"/>
            <a:ext cx="405288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70c0"/>
                </a:solidFill>
                <a:latin typeface="Arial"/>
              </a:rPr>
              <a:t>{ DEMO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8" name="Grafik 10" descr="Shapes.gif"/>
          <p:cNvPicPr/>
          <p:nvPr/>
        </p:nvPicPr>
        <p:blipFill>
          <a:blip r:embed="rId1"/>
          <a:stretch/>
        </p:blipFill>
        <p:spPr>
          <a:xfrm>
            <a:off x="5580000" y="1197000"/>
            <a:ext cx="327348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d4f3c"/>
                </a:solidFill>
                <a:latin typeface="Arial"/>
              </a:rPr>
              <a:t>JavaFX goes 3D: </a:t>
            </a:r>
            <a:br>
              <a:rPr sz="2800"/>
            </a:br>
            <a:r>
              <a:rPr b="0" lang="de-DE" sz="2800" spc="-1" strike="noStrike">
                <a:solidFill>
                  <a:srgbClr val="0d4f3c"/>
                </a:solidFill>
                <a:latin typeface="Arial"/>
              </a:rPr>
              <a:t>3DViewer</a:t>
            </a:r>
            <a:endParaRPr b="0" lang="en-US" sz="28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303120" y="1196640"/>
            <a:ext cx="4052880" cy="48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terstützt Import gänger 3D-Formate (z.B. OBJ and May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terstützt Export als Java oder FXML Dat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ktuell noch sehr früher, experimenteller Entwicklungsst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70c0"/>
                </a:solidFill>
                <a:latin typeface="Arial"/>
              </a:rPr>
              <a:t>{ DEMO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1" name="Picture 7" descr=""/>
          <p:cNvPicPr/>
          <p:nvPr/>
        </p:nvPicPr>
        <p:blipFill>
          <a:blip r:embed="rId1"/>
          <a:stretch/>
        </p:blipFill>
        <p:spPr>
          <a:xfrm>
            <a:off x="4356000" y="1341360"/>
            <a:ext cx="457200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8-01T16:33:14Z</dcterms:created>
  <dc:creator>R.Vicups, S.Ohm</dc:creator>
  <dc:description/>
  <dc:language>en-US</dc:language>
  <cp:lastModifiedBy>rbommersbach</cp:lastModifiedBy>
  <cp:lastPrinted>1996-08-01T16:36:58Z</cp:lastPrinted>
  <dcterms:modified xsi:type="dcterms:W3CDTF">2014-08-22T14:52:48Z</dcterms:modified>
  <cp:revision>439</cp:revision>
  <dc:subject/>
  <dc:title>Standard-power-point-Vorlage</dc:title>
</cp:coreProperties>
</file>